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70B-9BD2-4B22-A003-EA0755BA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CCE-EAB8-44AA-811B-B07DFC7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97C-7445-4924-875B-E9A99B91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CB7-99F7-4FDD-9C38-D3D1FF9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397-229E-47D9-8D3F-3EBF67F8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8DB-5937-4887-8C6A-C0AED98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5A4-CDEA-47D0-90C7-47DB90C9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606-FE30-4EAF-BA67-7C23A332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00B-B678-4F5B-85EA-746753F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A0D-3627-4569-B1D5-FA5D8E7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511-9508-4931-82A1-CF96149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F49-16F3-4FCB-B62C-953FB95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5974-10F2-4B56-B0C8-975B4BF320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Arial Narrow"/>
              </a:rPr>
              <a:t>مهارات الكتابة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أ. محمد ال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إعداد المذكرات الإدراية</a:t>
            </a:r>
            <a:br>
              <a:rPr sz="3200"/>
            </a:b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3733920" y="658800"/>
            <a:ext cx="2095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17375e"/>
                </a:solidFill>
                <a:latin typeface="Arial Narrow"/>
              </a:rPr>
              <a:t>محاضر الاجتماع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Narrow"/>
              </a:rPr>
              <a:t>تعريف محضر الاجتم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تبر المحاضر مستندات قانونية مهمة للقرارات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ازات التي قامت بها الشرك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المجموعة، بالإضا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وات معلومات مهم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عناصر محاضر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اجتماعات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للمحاضر ثلاثة عناصر رئيسة ه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قدمة المحض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صلب الموضو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خات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مقدمة المحضر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أت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 مقدمة الصفحة وتحتوي على معلومات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همة ع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من ومكان 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غراض الاجتما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سم ووظيفة رئيس الاجتما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لحضور (خاصة  في الهيئات التي تتطلب اجتماعاتها اكتمال النصاب القانون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سماء الحضور وشركاتهم ووظائف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صلب المحضر </a:t>
            </a: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حتوي صلب المحضر على م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م تداوله في الاجتما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رارات التي تم اتخاذ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اقتراح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التوصيات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فضل طريقة لكتابة المحضر هو اتباع تسلسل الموضوعات كما جاءت في جدول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مال الاجت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جدول 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مال يمثل البنود التي سوف يتم مناقشتها في الاجتماع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قوم بتحضي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جدول الأعمال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ادة رئيس الشرك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 من يفوضه بذ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في بعض الحالات يحتوي صلب المحضر على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ماء ووظائف كل الذين قدموا تقارير في الاجتماع مع تلخيص لتقاري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ماء المتحدثين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خرين مع ملخص لحديث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سجيل نتيجة التصويت اذا كان هنالك تصوي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عناصر المح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خاتم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حتوي ع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بع معلومات مهم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زمن نهاية الاج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سم ووظيفة وتوقيع كاتب المحض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ذا تمت طباعة المحضر بواسطة شخ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خر يجب كتابة اسم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ض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واقيع 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عضاء الذين حضروا الاجتما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ضّر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جدول أعمال الاجتماع،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ساعدك في الحصول على الأفكار الرئيسية ، وبالتالي يساعدك في تنظيم نقاط المحض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بدأ بتسجيل المعلومات المهمة الخاصة بمقدمة المحضر: زمن ومكان الاجتماع ، وعدد الحضور والهدف من عقد الاجتماع الخ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لكل بند عنوانه، حتى يتسنى للقارئ الوصول إلى البند الذي يريده بسهولة . يجب كتابة أي اقتراح بدقة وبنفس كلماته، ولتتمكن من عمل ذلك يمكن أن يطلب الرئيس من كل من يقدم اقتراحا أن يقوم بكتابته كامل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النقاش الذي تم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ول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ل بند ثم القرار الذي تم اتخاذه وفي الواقع، يتم في الاجتماعات عادة عمل شيئين هما: توصيل المعلومات واتخاذ القرا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في حالة التصويت الشفهي على الاقتراحات دون عد الأصوات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مكن تدوين ذلك في المحضر بإيجاز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مت الموافقة على الاقتراح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فض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أما في حالة حساب عدد الأصوات فيجب أن يحتوي المحضر على عدد المؤيدين وعدد المعارضين والممتنعين عن التصوي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طوات وإجراءات تدوين المحاضر</a:t>
            </a:r>
            <a:r>
              <a:rPr b="1" lang="ar-JO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كتب المسودة بعد انتهاء الاجتماع </a:t>
            </a: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مباشر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 عندما تكون ذاكرتك لا تزال قريبة العهد بالمعلوم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يجب أن يكون المحضر موجزا ومناسب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ً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ختم المحضر بطريقة مهنية بالكتابة المختصرة لمعلومات مهم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ثل: زمن نهاية الاجتما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س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تب 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توقي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واسم طابع المحض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ذكر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عريف المذك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أنواع المذك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000" spc="-1" strike="noStrike">
                <a:solidFill>
                  <a:srgbClr val="000000"/>
                </a:solidFill>
                <a:latin typeface="Arial"/>
              </a:rPr>
              <a:t>موضوع المذك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شكل العام للمذك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000" spc="-1" strike="noStrike">
                <a:solidFill>
                  <a:srgbClr val="000000"/>
                </a:solidFill>
                <a:latin typeface="Arial"/>
              </a:rPr>
              <a:t>خصائص المذكرة الج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حاضر الاجتما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عريف محضر الاجتما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اصر محاضر الاجتما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مقدمة المحض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صلب المحض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 الأسئل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abc\Desktop\UoD\Teaching\أخلاقيات العمل\photo\QM.jpg"/>
          <p:cNvPicPr/>
          <p:nvPr/>
        </p:nvPicPr>
        <p:blipFill>
          <a:blip r:embed="rId2"/>
          <a:stretch/>
        </p:blipFill>
        <p:spPr>
          <a:xfrm>
            <a:off x="3733920" y="1676520"/>
            <a:ext cx="2027160" cy="2703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Narrow"/>
              </a:rPr>
              <a:t>الفصل الرابع: إعداد المذكرات الإدراية ومحاضر الاجتم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تعريف ا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ذكرة تمثل نوعا من التقارير صغيرة الحجم ، عادة لا تتعدى صفح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صفحتين ، وهي شائعة الاستخدام في مختلف المنشآت الحكومية والتجارية على اختلا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واعها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ادة تعد هذه المذكرات لكي ترفع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من يشغلون المناصب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ارية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ل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Narrow"/>
              </a:rPr>
              <a:t>أنواع المذك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واع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إما لإيصال معلومة أو طلب معل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ات 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قترح حلول ممكنة لمشكلة ما وتكون عادة لمستويات إدارية 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ة إقناع وتحف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لحث شخص على أخذ قرار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ذكرة اقتراح داخ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خدم عادة لإيصال مقترحات إلى مستويات إدارية أ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موضوع ا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مذكرات تتعامل مع عدد كبير من الموضوعات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المستويات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 مث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توصيل معلومات لمن يشغلون المناصب 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دارية ا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على.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وفي هذه الحالة عادة ما تنتهي المذكرة بعبارة مثل: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رجا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تكرم بالعلم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 أو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الرجاء الاحاط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قد تعرض المذكرة مشكلة ويقترح كاتب هذه المذكرة حلا لها وعادة ما تنتهي هذه المذكرة بالعبارات الاتية: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رجاء التكرم بالموافق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قد تتعرض المذكرة لموقف معين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و مشكلة معينة ويرفعها كاتبها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000" spc="-1" strike="noStrike">
                <a:solidFill>
                  <a:srgbClr val="000000"/>
                </a:solidFill>
                <a:latin typeface="Arial"/>
              </a:rPr>
              <a:t>لى الرئيس طالبا منه التوجيه فيما يتعلق بأسلوب التعامل مع هذه الموقف او المشكل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شكل العام ل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مكن توضيح الشكل العام للمذكرة ك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سم وشعار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مقدمة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تشمل على مرسل المذكرة والمخاطب والتاريخ والرقم والموضوع والمرفق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صلب الموضوع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أتي بعد ذلك صلب المذكرة او موضوع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مطلوب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وضح في هذا القسم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زاء المطلوبة بناء على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شكل العام للمذك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حية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تستعمل بتعبيرات مع التحية، ودمتم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وقيع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ويكون في الجانب الايسر من الور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صائص المذكرة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جب مراعاة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د كتابة المذكرا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ّ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 يب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كتابة المذكرة التي سيرفع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ى المستوى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اري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ع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ا بعد دراسة الموضوع دراسة وافية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مام بجميع جوانبه وجمع كل البيانات والحقائق عن 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ستخدم اللغة المناسبة 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جعل المذكرة على قدر كاف من التوضيح بالنسبة للأفكار التي تتضم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ستخدم في المذكرة الشائع من الكل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17375e"/>
                </a:solidFill>
                <a:latin typeface="Arial Narrow"/>
              </a:rPr>
              <a:t>خصائص المذكر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يفصل كاتب المذكرة 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ه الشخصي بالنسبة للمسائل التي تعرضها المذكرة عن الحقائق والمعلومات التي تتضمنها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تكون المذكرة خالية من 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خطاء النحوية و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ل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 تقدم المذكرة في وقت مناسب من حيث الزمان والمكان للجهة المقدمة لها حتى يتعامل مع ما يرد فيها بمنطقية ومهن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9:22:36Z</dcterms:created>
  <dc:creator>abc</dc:creator>
  <dc:description/>
  <dc:language>en-US</dc:language>
  <cp:lastModifiedBy>abc</cp:lastModifiedBy>
  <dcterms:modified xsi:type="dcterms:W3CDTF">2012-05-26T20:19:56Z</dcterms:modified>
  <cp:revision>27</cp:revision>
  <dc:subject/>
  <dc:title>الفصل الثاني عشر</dc:title>
</cp:coreProperties>
</file>